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2C03-062F-418E-ABF2-DE14F7AEF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B1FD-5479-454B-887C-BA4873E4E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1A8-0851-46E9-96CA-235EB0D5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A09-3794-475F-918C-29F9F6E4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F99-C87E-4F40-9E45-6CEB0305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E2D-0B4E-42FD-8822-715AF1EC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51A-6727-4725-AF74-D7F8B16F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21E-561D-4101-83DD-AB94E593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3E0-883C-416B-8BDF-D55E9EA6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514-9762-4796-958D-C8C4363D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11F-1223-4AED-8613-2D5073C9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C42-0C35-44A8-BCB4-9370283F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472-F2C5-4EE5-B0A6-65B7CD3C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209-BDF9-4485-B284-76BDB76C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F80A-E9A5-4C1F-8DCD-04243D8E3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Mo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Mont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Montes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Mont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Mont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Gabriela Yo vivo en Nueva York. Tengo catorce años. Tengo dos herman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0472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i gracias mu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Lesle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haces amiga? Quieres comer con mi?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133720" y="4492800"/>
            <a:ext cx="457200" cy="639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amigas buenos dias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Ros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09960" y="51753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5257800"/>
            <a:ext cx="4343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36880" y="60166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Ro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 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40:53Z</dcterms:created>
  <dc:creator>FriscoISD</dc:creator>
  <dc:description/>
  <dc:language>en-US</dc:language>
  <cp:lastModifiedBy>NYCDOE</cp:lastModifiedBy>
  <dcterms:modified xsi:type="dcterms:W3CDTF">2012-12-07T15:01:26Z</dcterms:modified>
  <cp:revision>107</cp:revision>
  <dc:subject/>
  <dc:title>Profile</dc:title>
</cp:coreProperties>
</file>